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4DE4-7323-467E-8040-62AFFD9CE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040D-F801-464F-8FFC-F8B7DB10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A02A-EA2A-4895-8984-2747CADE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00CA-879D-41DC-9F53-A7908A3B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296E-85B1-4DAB-AAC5-878AF83F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CFE3-6DC0-457B-8061-7C4A420D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E381-C63C-4C5B-A403-9B871B50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DDED-C625-4269-A9B8-77D74016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D6E1-515E-48F4-AF5C-9C636AFE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ABEB-C4FF-4BC6-880A-9CBFEE26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74B9-7451-4B6D-89DF-1B40D0B47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9F56-5F90-4752-9B08-06A4DE1CC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13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14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ftr" idx="15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16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52428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452400" y="6494400"/>
            <a:ext cx="28954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07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BEA0-6CD6-4305-916C-565AC3594D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8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9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10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1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12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olicyholder.gov.in/" TargetMode="External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47640" y="2811240"/>
            <a:ext cx="7848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39e2f"/>
                </a:solidFill>
                <a:latin typeface="Verdana"/>
              </a:rPr>
              <a:t>Financial Education </a:t>
            </a:r>
            <a:endParaRPr b="1" lang="en-US" sz="40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759040" y="3509640"/>
            <a:ext cx="36259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</a:rPr>
              <a:t>Class X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63" name="Picture 7" descr=""/>
          <p:cNvPicPr/>
          <p:nvPr/>
        </p:nvPicPr>
        <p:blipFill>
          <a:blip r:embed="rId1"/>
          <a:stretch/>
        </p:blipFill>
        <p:spPr>
          <a:xfrm>
            <a:off x="3405240" y="425520"/>
            <a:ext cx="2097000" cy="2257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New initiatives for the Policyholder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2" name="Text Placeholder 3"/>
          <p:cNvSpPr/>
          <p:nvPr/>
        </p:nvSpPr>
        <p:spPr>
          <a:xfrm>
            <a:off x="380880" y="68580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7800"/>
                </a:solidFill>
                <a:latin typeface="Verdana"/>
              </a:rPr>
              <a:t>Demand 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51920" y="14475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The Integrated Grievance Management System (IGMS) offers an online system to register the complaints of the policyholder  through IRDAI call centre.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Helps to track the status of the complaint on real time basis. 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Call Centre educates the policyholders on available grievance redressal mechanism. 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The regulator has launched an exclusive consumer education website </a:t>
            </a:r>
            <a:r>
              <a:rPr b="1" lang="en-US" sz="1800" spc="-1" strike="noStrike" u="sng">
                <a:solidFill>
                  <a:srgbClr val="bad16f"/>
                </a:solidFill>
                <a:uFillTx/>
                <a:latin typeface="Verdana"/>
                <a:hlinkClick r:id="rId1"/>
              </a:rPr>
              <a:t>www.policyholder.gov.in</a:t>
            </a: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84" name="Text Placeholder 5"/>
          <p:cNvSpPr/>
          <p:nvPr/>
        </p:nvSpPr>
        <p:spPr>
          <a:xfrm>
            <a:off x="4648320" y="68580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7800"/>
                </a:solidFill>
                <a:latin typeface="Verdana"/>
              </a:rPr>
              <a:t>Supply 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190760" y="1371240"/>
            <a:ext cx="4724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Insurers have developed innovative insurance policies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Internet purchase of policy  saves the client from paying any commission to the traditional agent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The internet has made the service easily accessible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People working at the back-end office, call centre are trained to provide correct information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The processes have become customer friendly due to the speed and accuracy of service delivery.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Promotion through web aggregators and SMS technology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Insurance policies can be stored in electronic form (e-Policies).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058760" y="1923840"/>
            <a:ext cx="7121520" cy="187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07800"/>
                </a:solidFill>
                <a:latin typeface="Verdana"/>
              </a:rPr>
              <a:t>Insurance Ombudsman</a:t>
            </a:r>
            <a:endParaRPr b="1" lang="en-US" sz="4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The Scheme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Insurance Ombudsman scheme was created by Government of India for individual policyholders to have their complaints settled out of the courts system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omplaints are settled in a cost-effective, efficient and impartial wa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re are 12 Ombudsman Centres, covering the countr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e can approach the insurance Ombudsman if-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. Insurance company does not resolve the complaint    after approaching them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i. The complaint is not resolved to the satisfaction of   policyhold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ii. the insurer has not at  responded to it for 30 day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074600" y="2097000"/>
            <a:ext cx="71215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Commodity Futures Market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Marke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80520" y="1676160"/>
            <a:ext cx="4038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place where forces of demand (buyer) and supply (seller) operate or interact (directly or through intermediaries) to trade goods, services or contracts or instruments, for mone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94" name="Diagram 4" descr=""/>
          <p:cNvPicPr/>
          <p:nvPr/>
        </p:nvPicPr>
        <p:blipFill>
          <a:blip r:embed="rId1"/>
          <a:stretch/>
        </p:blipFill>
        <p:spPr>
          <a:xfrm>
            <a:off x="4651200" y="3286080"/>
            <a:ext cx="4035600" cy="2870280"/>
          </a:xfrm>
          <a:prstGeom prst="rect">
            <a:avLst/>
          </a:prstGeom>
          <a:ln w="0">
            <a:noFill/>
          </a:ln>
        </p:spPr>
      </p:pic>
      <p:grpSp>
        <p:nvGrpSpPr>
          <p:cNvPr id="595" name="Group 5"/>
          <p:cNvGrpSpPr/>
          <p:nvPr/>
        </p:nvGrpSpPr>
        <p:grpSpPr>
          <a:xfrm>
            <a:off x="5410080" y="2057400"/>
            <a:ext cx="2438640" cy="1177920"/>
            <a:chOff x="5410080" y="2057400"/>
            <a:chExt cx="2438640" cy="1177920"/>
          </a:xfrm>
        </p:grpSpPr>
        <p:sp>
          <p:nvSpPr>
            <p:cNvPr id="596" name="Rounded Rectangle 6"/>
            <p:cNvSpPr/>
            <p:nvPr/>
          </p:nvSpPr>
          <p:spPr>
            <a:xfrm>
              <a:off x="5410080" y="2057400"/>
              <a:ext cx="2438640" cy="1177920"/>
            </a:xfrm>
            <a:prstGeom prst="roundRect">
              <a:avLst>
                <a:gd name="adj" fmla="val 10000"/>
              </a:avLst>
            </a:prstGeom>
            <a:solidFill>
              <a:srgbClr val="839e2f">
                <a:alpha val="90000"/>
              </a:srgbClr>
            </a:solidFill>
            <a:ln w="25560">
              <a:solidFill>
                <a:srgbClr val="8fad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Rounded Rectangle 4"/>
            <p:cNvSpPr/>
            <p:nvPr/>
          </p:nvSpPr>
          <p:spPr>
            <a:xfrm>
              <a:off x="5454360" y="2092320"/>
              <a:ext cx="2349720" cy="11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20160" bIns="201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8" name="Rectangle 8"/>
          <p:cNvSpPr/>
          <p:nvPr/>
        </p:nvSpPr>
        <p:spPr>
          <a:xfrm>
            <a:off x="5659560" y="2160720"/>
            <a:ext cx="200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gments of Commodities Mark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Forward Contrac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ward contract is a derivative contrac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derivative contract is an enforceable agreement whose value is derived from the value of an underlying asse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underlying asset can be a commodity, currency, bond, stock, or, indices of commodities, stocks et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Futures or Hedge Contrac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utures contract is one type of forward contract and are highly standardized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are traded on recognized Commodity Exchang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are generally used for protecting against risk of adverse price fluctuation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articipants in commodity futures markets are Hedgers, Speculators and Arbitrageur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058760" y="2365200"/>
            <a:ext cx="7121520" cy="12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Economic Depression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Economic Depression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economic recession means general decline in economic activit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a part of business cycl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recession is generally characterized by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ecline in GDP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ecline in Industrial Output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Higher Unemployment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ecline in people’s spending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074600" y="2190240"/>
            <a:ext cx="712152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Investing in Shares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106640" y="2222640"/>
            <a:ext cx="7248240" cy="102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Electronic Commerce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  <a:p>
            <a:pPr marL="284400" indent="-284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7800"/>
                </a:solidFill>
                <a:latin typeface="Verdana"/>
              </a:rPr>
              <a:t>E-commerce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asic Concep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46040" y="1592280"/>
            <a:ext cx="40147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Equity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26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ace value of a share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Market Value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remium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ividend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11" name="Content Placeholder 6"/>
          <p:cNvSpPr/>
          <p:nvPr/>
        </p:nvSpPr>
        <p:spPr>
          <a:xfrm>
            <a:off x="4446720" y="1655640"/>
            <a:ext cx="435600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Net worth of the compan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original value of stoc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urrent value at which each stock trad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ifference between market value and face valu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share of profit received in proportion of one’s sharehold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Initial Public Offering (IPO)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614520" y="1209600"/>
            <a:ext cx="7851600" cy="50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initial offering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f securities to the publi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BI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registered merchant banker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re responsible for selling the securities to the publi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also investigate the company’s business and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verify the financial information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given to the investor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company must file a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registration statement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with the SEBI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re is an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offer document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ssued to the public to help them determine if they want to purchase the stock on off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PO’s final price is determined on the basis of all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bid pric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llotment of shares is made on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full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or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ro-rata basi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fter its price is determin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1090440" y="2522160"/>
            <a:ext cx="7121520" cy="15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Benefits of Insurance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enefits to Individual and Societ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surance is an arrangement by which a person can plan for continuation of income for self, family or business, under uncertainty, old age or death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related to protection of human life and asset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 society, it is an arrangement where many would contributes to mitigate losses of a few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Greater longevity is achieved through-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mproving living standards,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creasing productivity, and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making quality healthcare accessibl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enefits to Econom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Life insurance contracts are long term contract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vestors become the principal source of capital for the economy by investing their fund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Non-life insurance provides cover to trade and industry against losses due to uncertainti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Government gets the capital investment needed to finance physical and social infrastructure through insuranc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969920" y="2506320"/>
            <a:ext cx="5786640" cy="11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Learning to Trade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e8b2"/>
                </a:solidFill>
                <a:latin typeface="Verdana"/>
              </a:rPr>
              <a:t>Things to know before investing in stocks</a:t>
            </a:r>
            <a:endParaRPr b="1" lang="en-US" sz="24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074600" y="1288800"/>
            <a:ext cx="71215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vesting in stocks is one of many options for investing your mone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comes with risk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pen an account with a brokerage firm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iversify your investmen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onsider an appropriate mix of stocks to inves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gain income from dividends paid by the compani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1074600" y="2285640"/>
            <a:ext cx="712152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07800"/>
                </a:solidFill>
                <a:latin typeface="Verdana"/>
              </a:rPr>
              <a:t>Stock Exchange and Economy</a:t>
            </a:r>
            <a:endParaRPr b="1" lang="en-US" sz="4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Stock Exchange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provide trading facilities to investors through stock broker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securities traded on stock exchange include shares issued by companies, derivatives, debentures, bonds, etc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Bombay Stock Exchange (BSE) and National Stock Exchange (NSE) are major stock exchanges of India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tock exchanges help companies raise money to expand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enefits to the Econom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61680" y="1209600"/>
            <a:ext cx="794556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tock exchanges play a vital role in functioning of the economy by providing the backbone to a nation’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economic infrastructur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work as first level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regulator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 securities marke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allow any person to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invest in any companie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(greatest or smallest)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provid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order and regulation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to the process of stock trading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provide companies with the facility to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raise capital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 expansion through sale of shares to publi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Help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mobilize saving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rom households and redirect it to firms  to promote business activit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tock exchanges act as a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barometer of the economy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E Commerce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a type of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business model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, or a segment of a larger business model, that enables a firm or individual to do business over an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electronic network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, typically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internet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a step ahead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f mail-order purchasing through a catalogu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offers a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wide variety of product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nd services. For example, clothes, books, financial services to train/plane ticket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a mor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convenient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method of shopping in terms of time and effort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e can pay through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debit/credit card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or through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cash on deliver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058760" y="2238480"/>
            <a:ext cx="7121520" cy="14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Trading and DEMAT Account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DEMAT Accoun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o trade in stocks, one needs a trading and DEMAT account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e needs to understand the concepts related to trading and DEMAT account before opening on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gives one convenience to buy and sell shares from the comfort of his home/offic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allows the investors to retain shares purchased in electronic form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DEMAT account fac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can open multiple demat account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re are no account opening charg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an have nil balanc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1058760" y="2174760"/>
            <a:ext cx="7121520" cy="17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SEBI Grievance Redressal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SEBI Grievance Redressal System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BI has developed a centralized web based system for lodging and tracking investor complaints is known as SCORES (SEBI Complaint Redress System)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CORES can accept complaint against any market intermediary that is registered with SEBI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entity or intermediary needs to send an action taken report in SCORES within a reasonable period not more than 30 day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stock exchanges are supposed to resolve disputes at their end within 15 day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Pension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ension is the regular income of the individual after retiremen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Defined Benefit Pension plan is one in which a specified monthly benefit (payment) is available on retiremen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Defined Contribution Pension plan is one in which the pension amount is dependent upon the aggregated retirement corpus which in turn is determined by the amount of individual contribution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Pension (cont.)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ension Fund Regulatory and Development Authority was established by Government of India on 10 October 2003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Atal Bima Yojana is primarily focussed on all citizens in the unorganized sector, administered by PFRDA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ll citizens of age 18 to 40 can open account under National Pension System (NPS)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2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328f03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Text Box 3"/>
          <p:cNvSpPr/>
          <p:nvPr/>
        </p:nvSpPr>
        <p:spPr>
          <a:xfrm>
            <a:off x="2652840" y="2643120"/>
            <a:ext cx="57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Times New Roman"/>
                <a:ea typeface="Microsoft YaHei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TextBox 5"/>
          <p:cNvSpPr/>
          <p:nvPr/>
        </p:nvSpPr>
        <p:spPr>
          <a:xfrm>
            <a:off x="-241200" y="4451400"/>
            <a:ext cx="9385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mail : info@ncfe.org.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all : </a:t>
            </a:r>
            <a:r>
              <a:rPr b="0" lang="en-IN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2 68265 1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ke : facebook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ollow : twitter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hare : youtube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7" name="Picture 7" descr=""/>
          <p:cNvPicPr/>
          <p:nvPr/>
        </p:nvPicPr>
        <p:blipFill>
          <a:blip r:embed="rId1"/>
          <a:stretch/>
        </p:blipFill>
        <p:spPr>
          <a:xfrm>
            <a:off x="3405240" y="425520"/>
            <a:ext cx="209700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058760" y="1985760"/>
            <a:ext cx="712152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07800"/>
                </a:solidFill>
                <a:latin typeface="Verdana"/>
              </a:rPr>
              <a:t>Beware!!</a:t>
            </a:r>
            <a:endParaRPr b="1" lang="en-US" sz="4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Verdana"/>
              </a:rPr>
              <a:t>e-commerce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e8b2"/>
                </a:solidFill>
                <a:latin typeface="Verdana"/>
              </a:rPr>
              <a:t>Things to be taken care of while using         e-Commerce</a:t>
            </a:r>
            <a:endParaRPr b="1" lang="en-US" sz="24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need to take certain safety precautions while transacting onlin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ll you need to be careful about is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redit card borrowing limi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pams (unsolicited bulk business emails)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vailability of data pertaining to business on the online shopping website (street address, phone number of the company)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rivacy policy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Lock icon on the status bar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lect websites starting with “https:”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Keep records regarding all your online transaction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Verify claims and be aware of False claims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Advisory 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 ATM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Watch for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suspicious device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 the ATM machine to avoid data leakag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Number of persons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in ATM room should not be more than number of working ATM machine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on’t let anybody notice your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ATM PIN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Seek assistance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only from the security guard in case of your card getting struck in the ATM machine. Do not seek help from stranger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Advisory 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For POS transactions using ATM/Debit card and Internet banking: 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While transacting at merchant establishment (POS), keep eyes on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erson swiping the card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and alway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enter the PIN yourself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void using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ublic computer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like Cyber café for any e-commerce transactions/internet banking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Make sure that your PC ha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latest antivirus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, anti-malware, personal firewall et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Advisory (cont.)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Never respond to any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email asking for your account credential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(PIN, expiry date, card number, etc.) or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hishing mail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bout lotter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Erase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CVV number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 the backside of the card and memorize it or store it confidentiall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void using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hone device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unless the device is secur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7460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Financial Regulatory Bodies in India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276360" y="1135080"/>
            <a:ext cx="5638680" cy="55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The apex monetary and banking institution in India. India’s central bank.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An autonomous statutory body  that protects investor’s interest in the securities market, promotes development of, and regulates securities and commodities markets.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 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A statutory body that regulates and develops insurance sector in India. 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A statutory body that regulates the pension sector in India. 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80" name="Text Placeholder 3"/>
          <p:cNvSpPr/>
          <p:nvPr/>
        </p:nvSpPr>
        <p:spPr>
          <a:xfrm>
            <a:off x="228600" y="1282680"/>
            <a:ext cx="3124080" cy="54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Reserve Bank of Ind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Estab. April 1, 193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Securities and Exchange Board of Ind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Estab.1988 | SEBI Act 199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Insurance Regulatory and Development Authority of Ind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Estab. 1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Pension Fund Regulatory and Development Author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    </a:t>
            </a: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Estab. August 23,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4:55:55Z</dcterms:created>
  <dc:creator>吴忠毅</dc:creator>
  <dc:description/>
  <cp:keywords/>
  <dc:language>en-US</dc:language>
  <cp:lastModifiedBy>ncfeadmin</cp:lastModifiedBy>
  <cp:lastPrinted>1899-12-30T00:00:00Z</cp:lastPrinted>
  <dcterms:modified xsi:type="dcterms:W3CDTF">2021-06-30T04:43:11Z</dcterms:modified>
  <cp:revision>123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